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C95-605B-490C-BB7D-BAD74E72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436-FE6D-48C0-AC2A-97798AA8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A07-594F-41E9-8E04-5CAA572B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7B8-3F25-4A04-AE5E-E1487857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C0B5-0746-4BCE-8C23-0F7C9A30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0E35-8229-4E53-82BA-056661FA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66D9-4E03-4BB5-90CF-55D2659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4FD7-4FFA-4DAB-BA7C-01799B5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E318-4C14-49E2-A738-CE4BD42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40BA-3BEE-413B-AF5B-46A4DE0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167-7D32-44FA-9CFB-9915091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28D-ACF8-4AF5-8D8E-6CD07ED6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84B-4050-4C3C-813F-337B995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E24-9B12-4ABF-8723-2C05461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F71B-7160-4B57-AED8-D93611E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9AD-B449-4C2B-9888-6CDD1681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34B-02D0-48D8-ACED-4A946A6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2F0-899A-49E7-A577-5C5E13B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1BD-8310-4263-91AF-5F1B724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B02-6A5C-441D-BF54-4137E92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71-83AD-4E28-AD60-1CA5D539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33A-23CD-4463-9B54-4357B0D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F3F-FAF9-4319-A5C3-38CD5C11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2D3-37B8-4A61-BA35-CF1C731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52FC-8FFF-4D82-998B-48AE5D2D23E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C51-0367-4ED0-8EAB-7EEBF4961F7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534520" cy="217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USA PATRIOT Act of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hanced Surveillance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nking Recor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wide Search Warr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ntions of Immigr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ivil Liberties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534520" cy="217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partment of Homeland Security Act of 200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ureaucratic Turf Batt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binet-Level Department of Homeland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Largest Federal Ag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534520" cy="217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USA PATRIOT Improvement and Reauthorization Act of 200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gressional Oversi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ular Reauthorization Legisl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lineated Federal Access to Library Recor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hanced Penalties for Supporting Terrorism Financial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mproved Coord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28954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345520" cy="223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weeping Scope of New La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dog Role of Congr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dicial Decisions Limiting Executive Autho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cessity for Increased Government Autho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467560" cy="1408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1680" y="2286000"/>
            <a:ext cx="854064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Legal Foundations of Homeland Securit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656920" cy="167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tional and Domestic Law: Policy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storical Context: State Sponsorship of International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gitimizing Legal Authority: Classifying State Sponsors and Foreign Terrorist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tional Law and Counterterrorist Cooperation by the World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656920" cy="20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International and Domestic Law: Policy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ational Law and Policy Challe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stic Law and Policy Challe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353880" y="189000"/>
            <a:ext cx="8656920" cy="202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514240"/>
            <a:ext cx="82296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Historical Context: State Sponsorship of International Terro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asons for International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asons for State Sponsorship of International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656920" cy="20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36232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Legitimizing Legal Authority: Classifying State Sponsors and Foreign Terrorist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untry Reports on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gal Sanctions Against State Sponsors of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eign Terrorist Organizations (FTO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656920" cy="202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International Law and Counterterrorist Cooperation by the World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ational Conventions on Hijacking Offen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tecting Diplo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tradition Trea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national Courts and Tribun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97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20968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ti-Terrorism and Effective Death Penalty Act of 199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A PATRIOT Act of 200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artment of Homeland Security Act of 200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A PATRIOT Improvement and Reauthorization Act of 200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534520" cy="21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nti-Terrorism and Effective Death Penalty Act of 199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kground: Centennial Park Att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kground: Explosion of TWA Flight 8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fic Focus on Terrorism-Related Offen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5:21Z</dcterms:modified>
  <cp:revision>132</cp:revision>
  <dc:subject/>
  <dc:title>Slide 1</dc:title>
</cp:coreProperties>
</file>